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E384-64C3-4F16-934B-5C144DB90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D28-DD28-4E7C-994B-C079121B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95E9-7600-43E0-920B-315885DC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46B-7123-48FD-B944-51A4BCC9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FC89-7538-4829-A2F1-7810C6DE0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CC5A-E4CE-4E7B-91AA-98E38754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3D5E-04B3-4175-ADC8-B2F6E9CC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DCDE-B5C7-4EE7-9294-9C70ACAF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653C-28ED-497C-86CF-4A637DEF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C4B0-0ED3-47D3-8825-825C51A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4F65-FB30-456F-B71B-514ABB6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D92C-7CA5-4CC9-8000-EEC04E7E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FEF0-2565-4C5A-B34D-4EF53C81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881E-B589-4B2D-B39B-57FAEC46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EBA7C-4BE5-4056-8D43-83B3FDFD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446A-F82E-4C0F-B436-EF08CA6C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2B18-8808-4254-A0B5-1F29DBE2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7FD-DED9-43BC-8E4A-2034D0E4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2B63-B920-4B25-9B50-D85D1BE5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A8A9-22C6-4A3E-96A4-A4AA42FC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2A3-BA1E-4132-B31B-BC941463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6233-4927-446A-93FD-BEAF2A5D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532-5FA8-4407-BE5C-CA521DFC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F17-F703-4241-AA29-314348B4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03E2-B924-4E8C-92D8-63723F25E1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7334-CB71-44CF-8756-CD980FD5B22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17.xml"/><Relationship Id="rId4" Type="http://schemas.openxmlformats.org/officeDocument/2006/relationships/slide" Target="slide21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i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 “I will never stir from your side, when I am suffered to be near you. Please God, I will be as true to you as you have been to me!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14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1143000"/>
            <a:ext cx="1371600" cy="459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77120" y="1143000"/>
            <a:ext cx="1447560" cy="4597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eat Expectatio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y Charles Dickens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15T20:33:16Z</dcterms:modified>
  <cp:revision>30</cp:revision>
  <dc:subject/>
  <dc:title>Are You Smarter  Than a 5th Grader?</dc:title>
</cp:coreProperties>
</file>